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CE2-60FF-443C-9A05-F847F872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9D4-A01D-471B-ABB0-5FF5558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A3A-E38A-4A7E-B17B-B25CD866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8D6-4AFC-41BC-8AD5-B7751921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179-D2C6-42B1-9752-A6DD5067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089-2868-48C3-AE20-C08CD114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F2B-2EE1-46B6-AC75-C1A6193E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A4A-1B2B-4058-BE0F-6878EA5A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F64-9435-4D08-9418-1A8C1307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FE6-895A-4373-BCEA-4DCAE00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A4E-C2DB-4BF3-B80E-AFA7184A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A3E-9C5D-4A05-8515-F342F97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1717-A076-4A1B-BCAA-E2836EAC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“Overview”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00400" y="3962520"/>
            <a:ext cx="91440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your “home” pa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add photos, links, and text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2476440"/>
            <a:ext cx="7848360" cy="4381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2286000" y="2438280"/>
            <a:ext cx="9907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3809880"/>
            <a:ext cx="228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200400" y="2438280"/>
            <a:ext cx="1447920" cy="1371600"/>
          </a:xfrm>
          <a:prstGeom prst="line">
            <a:avLst/>
          </a:prstGeom>
          <a:ln w="381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952880" y="2438280"/>
            <a:ext cx="1447920" cy="198144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ter you have edited the page click “Save”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4952880"/>
            <a:ext cx="53352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819160" y="3581280"/>
            <a:ext cx="609480" cy="1295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0:41:14Z</dcterms:created>
  <dc:creator>%$#@1</dc:creator>
  <dc:description/>
  <dc:language>en-US</dc:language>
  <cp:lastModifiedBy>%$#@1</cp:lastModifiedBy>
  <dcterms:modified xsi:type="dcterms:W3CDTF">2010-04-27T00:42:17Z</dcterms:modified>
  <cp:revision>2</cp:revision>
  <dc:subject/>
  <dc:title>Your “Overview” Page</dc:title>
</cp:coreProperties>
</file>